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CA94-CDEA-4841-A574-EBB033F5F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8D0C-AF65-47C7-A36D-E7215C5F8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358-B94A-42CB-8CBE-B5C1226B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751-7E7B-4DCB-B0AA-320134BD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178-47FD-4012-B2E6-693D0236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5E4-32AD-4244-A012-BFDE44B6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7CC6-19F3-4D16-9A2E-59AFE307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F855-F421-4F99-B41A-4C69EA7C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8FCA-4BFE-4F78-BE0B-2DB2CB94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2F08-CD87-4D64-A1E3-B3ADDE65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4F5C-9D63-44B2-A7FD-BCA930D5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C511-E7E4-4A56-B55A-89249988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05C5-94B2-4413-8B7D-92C9DBF6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4C8-C9BB-4FE9-A01E-1E005063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0651-A457-4688-9BB2-C381BBBA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3D25-D2CD-4D3B-BF0C-25C7EFA4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C6F8-C7AF-4561-9FC2-6E351B89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3397-189B-484D-9F7E-EE790A12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B661-AD2C-4511-BCE2-256EC32A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195-647C-4480-9815-6AC2566D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628-D8F1-4191-9084-EFA06E5B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94C-A234-4491-A1C5-344E150E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AB4-5C91-43C8-AD3D-EF6E7D2E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E91-3E81-49AD-A011-6463E47E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545-6555-42FB-81F4-9D0A29EC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8FEE-C3F3-49D0-89AA-1E27A641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D65A-6ED6-4973-A5D5-34D5174EC76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720A-5C9B-4951-8714-1EFE55B69E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8" descr="LOGO"/>
          <p:cNvPicPr/>
          <p:nvPr/>
        </p:nvPicPr>
        <p:blipFill>
          <a:blip r:embed="rId3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LOGO"/>
          <p:cNvPicPr/>
          <p:nvPr/>
        </p:nvPicPr>
        <p:blipFill>
          <a:blip r:embed="rId3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4FDF-FB36-49E7-B69B-248FCA1F127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1995-E735-471E-8E9C-8F7A0FD83E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2888-1B44-4B80-B510-E85708D98F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DF05-5A8D-4B2B-B862-BBF130A23A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3068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Клиничка фармација 1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Предавање бр.7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ОСНОВНИ ПРИНЦИПИ ФАРМАКОКИНЕТИКЕ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340000" y="119700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тегрисане студије фармациј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2A7F-D756-44C6-9263-820DA02555C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2E6C-974B-42FB-8D1F-458A4B65DF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Ефекти које постиже лек у организму су у вези са његовом концентрацијом на месту деловања, па би било корисно да се прати концентрација лека на том месту у организму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То није могуће – нпр.  рецептори на које делује дигоксин су смештени у миокарду где није могуће узети узорак ради одређивања концентрације лека у ткив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8FD4-019D-4096-AC4A-EB534127442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D909-2ED8-447F-B8DF-D0CEA63022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Концентрација лека у организму се одређује најчешће у крви или другим телесним течностима  (плазма, урин, пљувачка ..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Узорак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узет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ради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мер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ња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онце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трације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800600" y="1828800"/>
            <a:ext cx="1447920" cy="1828800"/>
          </a:xfrm>
          <a:prstGeom prst="rect">
            <a:avLst/>
          </a:prstGeom>
          <a:solidFill>
            <a:srgbClr val="fca9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Лек</a:t>
            </a:r>
            <a:r>
              <a:rPr b="1" lang="sr-Latn-CS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у</a:t>
            </a:r>
            <a:r>
              <a:rPr b="1" lang="sr-Latn-CS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крв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248520" y="1828800"/>
            <a:ext cx="1523880" cy="18288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ек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ткиву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5334120" y="3504960"/>
            <a:ext cx="0" cy="6858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5715000" y="2133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9"/>
          <p:cNvSpPr/>
          <p:nvPr/>
        </p:nvSpPr>
        <p:spPr>
          <a:xfrm flipH="1">
            <a:off x="5714640" y="3276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D288-FC3E-4903-9A13-37121DC71F0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CBD2-DAB1-4F94-9AE3-5C32F84E8A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3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остоји пропорционалн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веза између концентрације лек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плазми и у ткив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где се лек везује за рецептор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69960" y="1752480"/>
            <a:ext cx="4297320" cy="426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5257800" y="502920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105520" y="518148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7"/>
          <p:cNvSpPr/>
          <p:nvPr/>
        </p:nvSpPr>
        <p:spPr>
          <a:xfrm flipV="1">
            <a:off x="5105520" y="20574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4876920" y="5410080"/>
            <a:ext cx="3352680" cy="457200"/>
          </a:xfrm>
          <a:prstGeom prst="rect">
            <a:avLst/>
          </a:prstGeom>
          <a:solidFill>
            <a:srgbClr val="a3b2c1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нцентрација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ека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ки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9"/>
          <p:cNvSpPr/>
          <p:nvPr/>
        </p:nvSpPr>
        <p:spPr>
          <a:xfrm rot="16200000">
            <a:off x="2979000" y="3208680"/>
            <a:ext cx="3336840" cy="6080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нцентрација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ека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лаз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10"/>
          <p:cNvSpPr/>
          <p:nvPr/>
        </p:nvSpPr>
        <p:spPr>
          <a:xfrm flipV="1">
            <a:off x="5105520" y="2285640"/>
            <a:ext cx="32004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11"/>
          <p:cNvSpPr/>
          <p:nvPr/>
        </p:nvSpPr>
        <p:spPr>
          <a:xfrm flipV="1">
            <a:off x="5105520" y="2209320"/>
            <a:ext cx="3200400" cy="297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E3B2-0AF9-4F21-B1B1-86D31819B9D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AAA1-3C80-4A53-9765-3415ABC026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Такође  снижење концентрације лека у  плазми доводи до снижења концентрације лека и у ткивим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F2F9-3BDA-4B90-A8AD-680EB595535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800E-8088-4A4C-9A95-205B997571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Захваљујући физичким и хемијским својствима лекови се у организму везују за различите рецепторе односно  ткива где остварују ефекат нпр.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дигоксин – миокард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бензодиазепини – масно ткив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 већини случајева   концентрација лека на месту деловања одређује интензитет дејства лек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FADB-C60B-4870-9B6E-1EA1AEA75D8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587E-6FF4-4B55-8685-13F9D91AD5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Такође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и други фактори утичу на одговор организма на лек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Густина рецептора на површини ћел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Механизам којим се сигнал преноси у ћелију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Фактори који контролишу  пренос генских информација и регулишу  продукцију протеина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5E16-4145-4279-8CE4-46E8E78236E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6635-343A-42AF-BEF6-D8DBB2B3F2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915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еза између концентрације лека на циљном месту и фармаколошког ефек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4360" y="2997360"/>
            <a:ext cx="788328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ан од начина за поређење јачине дејства лека је одређивање </a:t>
            </a: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концентрације лека са којом се постиже 50% максималног ефекта лека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, односно </a:t>
            </a:r>
            <a:r>
              <a:rPr b="1" lang="sr-CS" sz="2800" spc="-1" strike="noStrike">
                <a:solidFill>
                  <a:srgbClr val="cc0000"/>
                </a:solidFill>
                <a:latin typeface="Verdana"/>
              </a:rPr>
              <a:t>E</a:t>
            </a:r>
            <a:r>
              <a:rPr b="1" lang="sr-Latn-CS" sz="28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1" lang="sr-CS" sz="2800" spc="-1" strike="noStrike" baseline="-25000">
                <a:solidFill>
                  <a:srgbClr val="cc0000"/>
                </a:solidFill>
                <a:latin typeface="Verdana"/>
              </a:rPr>
              <a:t>50</a:t>
            </a:r>
            <a:r>
              <a:rPr b="1" lang="sr-CS" sz="2800" spc="-1" strike="noStrike">
                <a:solidFill>
                  <a:srgbClr val="00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9881-1D87-4F6D-A2CE-2F8EA44378A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68CF-3B2F-4826-9405-7EE5B1F16F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он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трација лека  директно утиче на фармаколошки одговор , али треба водити 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уна и о безбедној примени ле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а повећањем концентрације расту и ризици који се јављају због токсичних ефеката ле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Verdana"/>
              </a:rPr>
              <a:t>Терапијска ширина лека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– концентрација лека  са којом се за лечење одређене болести постиже жељени ефекат уз прихватљиве ризи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AFF7-9A72-4FC1-900F-1F36E5929B2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0363-E548-4731-82C2-B2A4F93D73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Узајамн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ез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онцентрације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теофилин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лазми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фармаколошког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ефект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теофилин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лућн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функциј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ФЕВ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Forced</a:t>
            </a:r>
            <a:r>
              <a:rPr b="0" i="1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i="1" lang="sr-Latn-C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pi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at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ор</a:t>
            </a:r>
            <a:r>
              <a:rPr b="0" i="1" lang="sr-Latn-CS" sz="22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lum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i="1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сматичних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ацијена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овећањем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онц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расте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интензитет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дговора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остоје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елике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интериндивидуалне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разлике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испољавању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дговор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70FE-CACA-485F-BEC5-6EEB802B4DD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DBB5-F5AD-4454-B91A-CB44FB74A4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ст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имењен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з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мож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д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различитих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убјекат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стигн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различит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нцентрациј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лазм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7FE1-B24B-46FF-B54A-A8B69158093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56B0-9190-4622-8F00-B86C1207B0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линичка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армакокинетика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с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.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армакокинети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АДМЕ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нцип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онцепт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ширине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ерапијске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онцентрације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ле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актори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оји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тичу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расподелу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лека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дговор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рганизма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ле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Израчунавање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армакокинетичких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араметара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елесних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ечности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армакокинетски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одели</a:t>
            </a:r>
            <a:r>
              <a:rPr b="0" lang="sr-Latn-C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EDBD-F0B9-4347-81BD-33985E85708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06E1-CE2E-4625-B3F0-5A66E5E295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Многи фармакокинетички фактори утичу на концентрацију лека у плазми, односно на одговор појединца на лек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Индивидуалне карактеристике пацијента (генетика) које утичу на метаболизам и елиминацију леко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Варијације у апсорпциј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Физиолошко стање (узраст..) или болест утичу на промене у апсорпцији, дистрибуцији или елиминациј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Интеракције леко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0BCC-1B45-43CD-9693-51B327D7E70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4054-2A85-4E42-AEDA-03EBB0AA35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За већину лекова интериндивидуалне разлике утичу на разлике у постизању концентрације лека у плазм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Терапијски мониторинг-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праћење концентрације лека у плазми има вредност када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стоји добра корелација између фармаколошког одговора и плазма концентр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ада лек има узак терапијски индекс (терапијска конц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ј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 блиска токсичној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ада се фармаколошки ефек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не може другим средствима измерити (нпр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вни притисак и антихипертензиви 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ада су интериндивидуалне разлике концентрације лека у плазми последица величине дозе лек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D15A-9AB1-496B-95F4-9803662D7F7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2A92-520B-4B09-B22D-4AAF3D3DB9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0" y="3581280"/>
            <a:ext cx="3962520" cy="838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УБОПТИМАЛНИ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ЕФЕКА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572000" y="2057400"/>
            <a:ext cx="3962520" cy="838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ОКСИЧНОС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746600" y="334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72000" y="2895480"/>
            <a:ext cx="39625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ПТИМАЛНИ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ЕФЕКА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8"/>
          <p:cNvSpPr/>
          <p:nvPr/>
        </p:nvSpPr>
        <p:spPr>
          <a:xfrm rot="16200000">
            <a:off x="914400" y="3352320"/>
            <a:ext cx="3886200" cy="381240"/>
          </a:xfrm>
          <a:prstGeom prst="rect">
            <a:avLst/>
          </a:prstGeom>
          <a:solidFill>
            <a:srgbClr val="a3b2c1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раст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нцентрације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ека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лаз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9"/>
          <p:cNvSpPr/>
          <p:nvPr/>
        </p:nvSpPr>
        <p:spPr>
          <a:xfrm flipV="1">
            <a:off x="3657600" y="1599840"/>
            <a:ext cx="0" cy="3886200"/>
          </a:xfrm>
          <a:prstGeom prst="line">
            <a:avLst/>
          </a:prstGeom>
          <a:ln w="1144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93C9-7382-41FD-B1FD-84151926A85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E448-13C2-4B7F-817D-AC42B49243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Начини</a:t>
            </a:r>
            <a:r>
              <a:rPr b="0" lang="sr-Latn-C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примене</a:t>
            </a:r>
            <a:r>
              <a:rPr b="0" lang="sr-Latn-CS" sz="3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апликације</a:t>
            </a:r>
            <a:r>
              <a:rPr b="0" lang="sr-Latn-CS" sz="3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леко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Ентерал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ек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блингвал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ал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рорал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ктал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арентерал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а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зва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равенс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рамускулар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бкута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радермал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пецијал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идов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епидурално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субарахноидалн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периартикуларн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интракардијалн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интраплеуралн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сваки</a:t>
            </a:r>
            <a:r>
              <a:rPr b="1" lang="sr-Latn-C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ут</a:t>
            </a:r>
            <a:r>
              <a:rPr b="1" lang="sr-Latn-C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римене</a:t>
            </a:r>
            <a:r>
              <a:rPr b="1" lang="sr-Latn-CS" sz="20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врх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окалн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истемск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епен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псорпци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актор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њ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тич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бр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ош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ра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нос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а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пецијалн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спек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пр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6BD7-64C9-4058-BEA1-9B412569F52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E74C-B939-4D75-829C-31A0520F8A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Начини</a:t>
            </a:r>
            <a:r>
              <a:rPr b="0" lang="sr-Latn-C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примене</a:t>
            </a:r>
            <a:r>
              <a:rPr b="0" lang="sr-Latn-CS" sz="3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апликације</a:t>
            </a:r>
            <a:r>
              <a:rPr b="0" lang="sr-Latn-CS" sz="3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леко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к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ућ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халаци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ж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ансдермал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узниц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њукти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аги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с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лузни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ретр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еш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сваки</a:t>
            </a:r>
            <a:r>
              <a:rPr b="1" lang="sr-Latn-C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ут</a:t>
            </a:r>
            <a:r>
              <a:rPr b="1" lang="sr-Latn-C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римене</a:t>
            </a:r>
            <a:r>
              <a:rPr b="1" lang="sr-Latn-CS" sz="20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врх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окалн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истемск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епен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псорпци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актор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њ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тич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бр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ош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ра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нос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а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пецијалн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спек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пр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F1CC-1E3F-40E0-8194-B8B947955DA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9C94-3EF8-4AAE-85B8-65FBD515D5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Фармакокинетички</a:t>
            </a:r>
            <a:r>
              <a:rPr b="0" lang="sr-Latn-C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модел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Терминолог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ростор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мпартма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Једнопросторн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одел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рганиз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вопросторн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одел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централ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остор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добр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окрвље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ерифер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остор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лаб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лош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окрвље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ишепросторн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одел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в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-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тр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-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улт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-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еквестраци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ткив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крв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ћел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Ткив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кумулациј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афинитет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специфичне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молекуле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нпр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кератин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гризеофулвин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65760" indent="-3834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специјализовани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транспортни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системи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нпр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јод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тироиде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67B4-A74C-41B3-847F-ED412C40807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6844-3F77-4620-96F3-4DCBC87202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Фармакокинет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2420640"/>
            <a:ext cx="80010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pharmacon (grč.) -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kinein (grč.) 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крета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Де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фармакологиј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оучав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удбин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организм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как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организам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делуј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ка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тр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н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упстанц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2D9D-2847-43B2-8DA6-811A0022F6F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3B84-0B69-4316-9D52-C66E24C45B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Фармакологија</a:t>
            </a:r>
            <a:r>
              <a:rPr b="0" lang="sr-Latn-C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896840"/>
            <a:ext cx="8001000" cy="29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914400" y="2666880"/>
            <a:ext cx="1752480" cy="2057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Е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095880" y="2743200"/>
            <a:ext cx="1828800" cy="19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РГАНИЗАМ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2819520" y="3429000"/>
            <a:ext cx="2743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7"/>
          <p:cNvSpPr/>
          <p:nvPr/>
        </p:nvSpPr>
        <p:spPr>
          <a:xfrm flipH="1">
            <a:off x="2895120" y="3733920"/>
            <a:ext cx="26672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971800" y="2743200"/>
            <a:ext cx="26668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ФАРМАКОДИНАМ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2971800" y="4191120"/>
            <a:ext cx="2666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ФАРМАКОКИНЕТ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380880" y="5105520"/>
            <a:ext cx="83822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ФАРМАКОКИНЕТ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ати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удбину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ека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рганиз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73E4-0A94-4FAF-8E65-0B9D0635E24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57A1-9A49-4A6E-B963-B4B36F8011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382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Фармакокнетик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ук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ј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бави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оучавањем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удбин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”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лек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рганизм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дносно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оучав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оцес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сорпц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стрибуц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  </a:t>
            </a: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таболиз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       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sr-Latn-CS" sz="2600" spc="-1" strike="noStrike">
                <a:solidFill>
                  <a:srgbClr val="00ff00"/>
                </a:solidFill>
                <a:latin typeface="Verdana"/>
              </a:rPr>
              <a:t>    </a:t>
            </a: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скрец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функцији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ремен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о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математичк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нализ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фармакокинетичких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оцес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3517-7CE1-47FE-BE42-04BECFA298C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2461-5EC8-4A40-92B8-81F7C328DA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Фармакодинамика говори о односу између концентрације лека на месту деловања и резултујућег ефекта, укључујући временски ток и интензитет терапијског и нежељеног дејст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3520" y="3505320"/>
            <a:ext cx="1523880" cy="1600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жи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зирањ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590920" y="3505320"/>
            <a:ext cx="1981080" cy="1676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центрац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ек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лаз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572000" y="3505320"/>
            <a:ext cx="1219320" cy="16761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ст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еловањ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553080" y="3505320"/>
            <a:ext cx="1828800" cy="1676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фек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447920" y="2895480"/>
            <a:ext cx="22860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фармакокинет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5029200" y="2895480"/>
            <a:ext cx="2514600" cy="38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фармакодинам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10"/>
          <p:cNvSpPr/>
          <p:nvPr/>
        </p:nvSpPr>
        <p:spPr>
          <a:xfrm rot="5400000">
            <a:off x="1485720" y="4686120"/>
            <a:ext cx="1219320" cy="266688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466560 h 2666880"/>
              <a:gd name="textAreaBottom" fmla="*/ 19335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11"/>
          <p:cNvSpPr/>
          <p:nvPr/>
        </p:nvSpPr>
        <p:spPr>
          <a:xfrm rot="5400000">
            <a:off x="5752800" y="4381560"/>
            <a:ext cx="1219320" cy="297180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519840 h 2971800"/>
              <a:gd name="textAreaBottom" fmla="*/ 21546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2133720" y="4343400"/>
            <a:ext cx="38088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5943600" y="4343400"/>
            <a:ext cx="53352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188C-1505-4DA0-A43A-F67ED22FDB7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D928-B1CB-44EA-B248-BAC2CF820A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линичку фармакокинетику је први увео Torsten Tiorell, 1920. годин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Verdana"/>
              </a:rPr>
              <a:t>Клиничка фармакокинетик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се бави применом фармакокинетских принципа ради безбедног и ефикасног лечења (примене лекова) појединачних болесни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дређивањ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ндивидуалн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рапијск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з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з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рењ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онцентрациј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е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иолошким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чностим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рум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лазм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одразумева се </a:t>
            </a: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"кинетичка хомогеност"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тј. предвидљива веза између концентрације лека у плазми и концентрације лека на рецепторском мест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7E43-85C8-4A6C-8CF1-40B9C489BB6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A2DD-4AA9-40B9-A07F-DB9B1E4B8D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рмакокинети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Фармакодинами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1828800"/>
            <a:ext cx="175248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описан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зни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жи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743200" y="1828800"/>
            <a:ext cx="25146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ек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есту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еловањ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781680" y="1905120"/>
            <a:ext cx="2057400" cy="838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фекти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ека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1828800" y="2286000"/>
            <a:ext cx="7621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5486400" y="2286000"/>
            <a:ext cx="9144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304920" y="3429000"/>
            <a:ext cx="3504960" cy="342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мплијан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авилно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зирањ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реш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псорпц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с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лумен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есних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ч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теракциј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е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лиминац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цес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таболиз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638680" y="3505320"/>
            <a:ext cx="327672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атус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цепто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енетск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испозиц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теракц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леранц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зрас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себн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пулац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A837-845E-444C-89B0-E7364C64AC5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DB84-00E4-40DF-BD8F-7A30417F61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7007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гово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вис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нцентрац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ст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лов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ецептора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(присуства, броја..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9-09-12T21:47:41Z</dcterms:modified>
  <cp:revision>19</cp:revision>
  <dc:subject/>
  <dc:title>Slide 1</dc:title>
</cp:coreProperties>
</file>